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188-36AF-4AF8-8FA3-8861EA2C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9F3-1127-49DA-BFCF-F5149C5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DFF-2987-444C-BF6F-895146A0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A02-4F75-406C-96B5-04C4297B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DBA-A16F-4491-AD55-664A733D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33D-31EE-4576-BAB8-D55D3B90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6C4-0FBA-4CD7-91CF-F13DA014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4A0-5AEE-4C38-9D0D-D372DD9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B86-F275-4FB6-8BB4-06646DE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80B-BC7C-4675-AED4-6BEAD9D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65B-5894-4CC6-A888-F8C3EB7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BC2-0AAA-48C7-8FA4-9F117DE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1A0-6EC9-4E9E-83B5-9462E1B12F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5e5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HAPTER 4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Experience of an Empire </a:t>
            </a:r>
            <a:br>
              <a:rPr sz="3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ighteenth-Century Amer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us Reviv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eat Awake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evangelical revivals that weakened old colonial religions (old lights vs new ligh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dedicate themselves to God, join organized churches, founded colleges, and question author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athan Edwards emphasized the Calvinistic teachings of the Puritans and of an omnipotent God and predest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Whitefield sustained the reviv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wakening promoted a democratic, religious union of national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h of Political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sts attempted to emulate British political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 led to discovery of how different they were from English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Royal gover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wers than King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miss ju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 provincial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ial Assemblies/Legisl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-class democrac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function was to prevent the encroachments on the people’s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mblies controlled colony’s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incentive for assembly to cooperate with governors (sometimes even hostile toward t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d extreme vigilance against the spread of privilege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ssemblies brought Americans a greater awareness of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, 17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IVI7233078"/>
          <p:cNvPicPr/>
          <p:nvPr/>
        </p:nvPicPr>
        <p:blipFill>
          <a:blip r:embed="rId2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entury of Conflict: Major Wars, 1689–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DIVI"/>
          <p:cNvPicPr/>
          <p:nvPr/>
        </p:nvPicPr>
        <p:blipFill>
          <a:blip r:embed="rId2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ury of Imperi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had an overwhelming militarily force to New France but yet it was often in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bany Con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bany Congress, 17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jamin Franklin’s idea of central colonial gover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ed representatives decide on matters of defense, western expansion, and relations with Native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ld levy taxes to support its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bany Plan failed, disliked by English and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6" descr=""/>
          <p:cNvPicPr/>
          <p:nvPr/>
        </p:nvPicPr>
        <p:blipFill>
          <a:blip r:embed="rId2"/>
          <a:srcRect l="0" t="-29364" r="0" b="-2936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 Years’ War/French and Indian War 1756-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s fought for control of the Mississippi River and Ohio River Val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er William Pitt shifted strategy to focus on North America (reason for vic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ce of Paris 1763: Franc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tish got all North America east of Mississi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nch retained two Caribbea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articular war had the greatest impact on the colonies politically and economic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after 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VI7233084"/>
          <p:cNvPicPr/>
          <p:nvPr/>
        </p:nvPicPr>
        <p:blipFill>
          <a:blip r:embed="rId2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s of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olonists aware of thei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trained officer corps that knew British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saw themselves as “junior partners” to Brit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38, Time Magazine chose Adolf Hitler for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n of the yea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verage human with a full head of hair contains between 85,000 to 150,000 hai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can give change for a dollar in 293 different coin variat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nails can sleep for up to 3 yea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ly one state in the United States contains only one syllab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European and African Immigrants in the Thirteen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6" descr="Map of colonial immigration.gif"/>
          <p:cNvPicPr/>
          <p:nvPr/>
        </p:nvPicPr>
        <p:blipFill>
          <a:blip r:embed="rId2"/>
          <a:srcRect l="-1868" t="0" r="-1868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7" descr="Colonial America 1770.jpeg"/>
          <p:cNvPicPr/>
          <p:nvPr/>
        </p:nvPicPr>
        <p:blipFill>
          <a:blip r:embed="rId3"/>
          <a:srcRect l="0" t="-26844" r="0" b="-2684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Growth and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uch growth through natural incre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Large influx of non-English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Scots-Irish Flee English O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Germans Search for a Bett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Convict Settl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b0511"/>
                </a:solidFill>
                <a:latin typeface="Calibri"/>
              </a:rPr>
              <a:t>Native Americans Stake Out a Middle 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any eastern Indians moved into trans-Appalachian region (Middle Grou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Play English and French again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anish Borderland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.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DIVI7233069"/>
          <p:cNvPicPr/>
          <p:nvPr/>
        </p:nvPicPr>
        <p:blipFill>
          <a:blip r:embed="rId2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Economic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Long-term period of economic and 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0511"/>
                </a:solidFill>
                <a:latin typeface="Calibri"/>
              </a:rPr>
              <a:t>Economies were geared to commerce, not manufa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0511"/>
                </a:solidFill>
                <a:latin typeface="Calibri"/>
              </a:rPr>
              <a:t>Trade was mainly with England and West Indies (West Indies provided merchants with profits that offset their British deb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English mass-production of consumer goods stimulated rise in colonial imp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Inhabitants emulated Englis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Trade between colonie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at Wagon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DIVI7233075"/>
          <p:cNvPicPr/>
          <p:nvPr/>
        </p:nvPicPr>
        <p:blipFill>
          <a:blip r:embed="rId2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Enlighte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llectual movement that swept Europe with new, rad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ing for useful, practical knowledg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lightenment’s basic assump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stic view of human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d set up the universe and human society to operate by natural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reception 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4:06:41Z</dcterms:created>
  <dc:creator/>
  <dc:description/>
  <dc:language>en-US</dc:language>
  <cp:lastModifiedBy>Buffalo Grive High School</cp:lastModifiedBy>
  <dcterms:modified xsi:type="dcterms:W3CDTF">2012-09-07T16:36:14Z</dcterms:modified>
  <cp:revision>34</cp:revision>
  <dc:subject/>
  <dc:title>CHAPTER 4 Experience of Empire: Eighteenth-Century America</dc:title>
</cp:coreProperties>
</file>